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FE3-3EB1-49F0-955C-C89865DBA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4BF-96A7-40CB-8E65-72C4360491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A71F-3D90-4CF7-ACD6-FF05835A34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CDA-1484-450F-A35E-77290940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5A2-B7B5-4A54-9541-3DA457DF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E696-451D-4B07-AA86-ACFD7663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B5B8-0A87-41F1-BE86-70E310E7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00143-D6EA-4D93-A7AA-7296B40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960FF-22D9-4305-ACC2-1718152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CECE4-C3D3-4FFF-8B3D-FD383BC7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55C6-391A-44BB-B0B1-D6701E45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9D30-0A90-4CD1-99EA-3682C393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8E487-0C46-4757-929E-553D89A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8FD63-A2EB-42D4-A8D4-56604E22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F9B-FB3F-48EE-9515-DDDD1D46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C30-5851-4622-A86E-29BF781F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F946-F47F-4253-BEA8-A17BC185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5E97-A9EF-482E-8AEF-3BD9FD4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0031-6896-4696-819A-D35212FE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072-14E1-48CC-AD46-FB4C41B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8BE-8670-4D3F-89E0-C9DCEBB2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8988-DF46-4871-A8D7-9E9ED27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9A4D-7D53-4023-AC38-4FBF338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0C0-3145-4F54-8EC3-40416210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13C8-AD00-423C-AE2B-B40FEC4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7A6-3DBF-40F1-AE5B-7D98C0A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C26-8B0D-4F3D-B50E-3E09B34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A763-4BC7-4383-9743-FB6E908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E8A1-2BAC-421D-834F-55580FA9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7E95-5B02-4B3B-9470-0587CA2E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9B2B-F833-408A-9C14-49E25B0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2E7B-9C44-4B23-AAC1-D7DCCB5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66A6-8B4F-4DDB-9A3E-DAE56D5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50A4-45A5-4648-A6DD-B2FC4E6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EC3-BCCD-4FF8-9617-6926A44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3C35-E2F5-46EA-A661-79C6128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8677-DB7B-4212-B8FB-6AE0AC0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2AF8-C0C6-4B87-999F-D2324AD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9974-AFB8-473C-B7AC-84DB47E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7D12-0D79-480F-8913-604EE4A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EBBC-7D65-4D56-B671-44BA2BB4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89BF-AEFA-4070-81E5-CEF26CE1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08A6-ECD9-4FEF-AE50-3B8195B7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74DB-62E4-45C9-A170-1DB16B6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531C-88D7-43BB-B064-8CD8A07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186-687D-4CCE-951F-F240E975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BAE1-F330-42CD-AA2E-D08E124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E1D3-EAC0-4D5D-BD64-C5E80C63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F44D-B865-43B9-92F3-DD732EC0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E8AE-87F1-48AE-B66D-DA3953D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5915-6673-4D36-A6D5-F7174C1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8E6B-4583-4EEA-8064-C3F73E3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7A5A-2978-41C4-93F0-DE68B69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2D82-113E-402F-9276-5E0ED04B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2589-ED53-4FD3-97D5-1919B996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83B00-C35C-49E5-AC78-F36B6A64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28B-7C3C-4C63-BE76-825F079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42F5-CDB1-4028-B9D8-A390BB2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99BF7-CC11-43A4-B704-1E5FCD7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3FF5-AF69-4927-AD26-28586F4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3A17-4F5D-40E1-84D3-9A61986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B1A0-63B4-4AB7-928D-EA12A3D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5E45-16C9-4EF4-A661-055887F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A458-D1E0-48B8-9D21-FBDD0E1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0E64-C878-41A0-8803-CAAFF8C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636E-88E2-421A-ACFE-EAA664ED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1B08-289D-42D0-A9B3-A4C24515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FF3-2E40-4644-B378-7EA61DA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0FA9-E1B5-413A-AE43-BB85E490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BBBD4-DCE4-4D52-974E-B4731F11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B80C6-8AF5-4843-AD30-7586184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29F3-E68F-4525-BF71-43B4DB9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38D3-941B-42DC-9689-0CE9A33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BA9E-8426-43C9-90F1-F9CE713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76AB-879F-49E8-9AA0-9328D5B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4123-6315-4BE5-BD7E-F6B37F2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7D55-47CD-4CEB-9366-66E158A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1AB9-6C4D-409B-9406-1763D9A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998-ED89-4E25-9EB9-CBA105B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5C78-9E16-4BD8-8FC1-6B83E4A5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CD1B-C205-4ACD-9A1C-ABEB3389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E7C7-1881-4723-95C2-2955C6C6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E7002-9CA9-44AF-9742-49DECDC7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573B0-A78E-481E-8E8A-76F93C0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E3F9-1861-4F04-AD07-C951EBD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5009C-7A96-4320-A5B8-3C109D00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0EDF6-6359-41F0-9FC6-30E2A20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22AB-41E0-4ED8-893C-0810CDB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CD904-F588-46DC-A078-56C1228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499-EA25-4DE0-BC43-638D55B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43A4-86F0-4853-A844-F47BB54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705C-55CF-4E6D-88BD-CB4242E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BA65-BE85-4B73-8E3C-0CF24D9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5C070-12A5-4613-A576-C1B6C542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CFB3-60D7-4A42-B4BC-76331FEA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6B9D-D09B-4E8C-89E1-8D10C65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CD0F-6F42-4BA5-84D5-04583D8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5529-0080-4987-949B-22C5951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6C6B-AC03-4003-98CC-FF4759A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F73E-FA65-4687-AE5B-13D58FC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BA6-1BAC-4569-AD1B-FBEC1BD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57977-74C4-4438-8FFF-47FEE861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9053-4EE1-4A1B-9306-8F710E2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5A83-496B-4767-8E9F-5F55362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DC67-A30F-4F75-9099-BDD48F0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F2496-00F4-4E43-A017-0A84F86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51D5-CC8E-4F06-A6B9-7DEE330F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08A6-B1B1-4C85-B385-2CB7709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C3942-7E89-4159-A874-A44960D1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23D2-1184-40F0-83DE-76D5F64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C7A4A-FC6A-40B1-A992-7094BF8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C92-61CE-46D1-908A-BED424112643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6428-58CD-4367-99A8-7B882A1B315D}" type="datetime">
              <a:rPr b="0" lang="ru-RU" sz="1200" spc="-1" strike="noStrike">
                <a:solidFill>
                  <a:srgbClr val="6fb833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D92-C426-46F6-B5B2-F5029778B7AA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F7D7-7A44-4148-9272-410AA4FD2409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C47-5090-4420-92A7-BC2E51A64F90}" type="datetime">
              <a:rPr b="0" lang="ru-RU" sz="1200" spc="-1" strike="noStrike">
                <a:solidFill>
                  <a:srgbClr val="6fb833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DBC-7A16-4BE5-B705-558E06839479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66FB-EA53-4F04-8AFC-AD2E59E2CDFD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6F2F-D44E-4BA6-A795-2D7E05D3E146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0BB-20AA-4DE6-81A1-E5B0A626EF28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FDA-2A5B-49DE-A691-442B7329859C}" type="datetime">
              <a:rPr b="0" lang="ru-RU" sz="1200" spc="-1" strike="noStrike">
                <a:solidFill>
                  <a:srgbClr val="6fb833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D13-987F-4DCE-8211-EC5E42240D30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76F2-1813-44EF-9A66-195A28AB7A3B}" type="slidenum">
              <a:rPr b="0" lang="ru-RU" sz="1200" spc="-1" strike="noStrike">
                <a:solidFill>
                  <a:srgbClr val="6fb8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9680" y="5713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Итоги  работы 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Белорецкого медицинского округа за  2016 год. 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Задачи на 2017 год.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85840" y="1214280"/>
            <a:ext cx="8286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714840" y="4286160"/>
            <a:ext cx="521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3f75"/>
                </a:solidFill>
                <a:latin typeface="Cambria"/>
              </a:rPr>
              <a:t>Главный внештатный специалист Минздрава РБ по  Белорецкому МО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ambria"/>
              </a:rPr>
              <a:t>Главный вр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ambria"/>
              </a:rPr>
              <a:t>ГБУЗ РБ Белорецкая ЦРК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entury"/>
              </a:rPr>
              <a:t>Кустов  Евгений 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5" descr=""/>
          <p:cNvPicPr/>
          <p:nvPr/>
        </p:nvPicPr>
        <p:blipFill>
          <a:blip r:embed="rId1"/>
          <a:stretch/>
        </p:blipFill>
        <p:spPr>
          <a:xfrm>
            <a:off x="133200" y="-73080"/>
            <a:ext cx="8864640" cy="1652760"/>
          </a:xfrm>
          <a:prstGeom prst="rect">
            <a:avLst/>
          </a:prstGeom>
          <a:ln w="0">
            <a:noFill/>
          </a:ln>
        </p:spPr>
      </p:pic>
      <p:pic>
        <p:nvPicPr>
          <p:cNvPr id="452" name="Содержимое 4" descr=""/>
          <p:cNvPicPr/>
          <p:nvPr/>
        </p:nvPicPr>
        <p:blipFill>
          <a:blip r:embed="rId2"/>
          <a:stretch/>
        </p:blipFill>
        <p:spPr>
          <a:xfrm>
            <a:off x="208080" y="1407960"/>
            <a:ext cx="87105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802720" cy="1116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Территориальная отдаленность и недостаточно эффективная работа врачей первичного звена и врачей-специалистов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не позволяет обеспечить  проведение необходимого количества плановых ангио-коронарографий, а также ВМП в РСЦ пациентам Белорецкого медицинского округа  в период «терапевтического» окна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55" name="Picture 2" descr="C:\Users\HP\Desktop\tb_04.gif"/>
          <p:cNvPicPr/>
          <p:nvPr/>
        </p:nvPicPr>
        <p:blipFill>
          <a:blip r:embed="rId2"/>
          <a:stretch/>
        </p:blipFill>
        <p:spPr>
          <a:xfrm>
            <a:off x="8358120" y="-6480"/>
            <a:ext cx="79236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" descr=""/>
          <p:cNvPicPr/>
          <p:nvPr/>
        </p:nvPicPr>
        <p:blipFill>
          <a:blip r:embed="rId1"/>
          <a:stretch/>
        </p:blipFill>
        <p:spPr>
          <a:xfrm>
            <a:off x="2514600" y="692280"/>
            <a:ext cx="5761080" cy="6165720"/>
          </a:xfrm>
          <a:prstGeom prst="rect">
            <a:avLst/>
          </a:prstGeom>
          <a:ln w="0">
            <a:noFill/>
          </a:ln>
        </p:spPr>
      </p:pic>
      <p:sp>
        <p:nvSpPr>
          <p:cNvPr id="457" name="Текст 24"/>
          <p:cNvSpPr/>
          <p:nvPr/>
        </p:nvSpPr>
        <p:spPr>
          <a:xfrm>
            <a:off x="0" y="1916280"/>
            <a:ext cx="28432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омежуточная цел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вели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личество пациентов направленных на плановую ангио-коронарограф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210 -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в 2016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  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400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следований в  2017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оведение В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88</a:t>
            </a:r>
            <a:r>
              <a:rPr b="1" lang="ru-RU" sz="2000" spc="-1" strike="noStrike">
                <a:solidFill>
                  <a:srgbClr val="003f75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Franklin Gothic Book"/>
              </a:rPr>
              <a:t>в 2016г.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 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100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тентирова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течение 2017 года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базе РСЦ Б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ая выноска 4"/>
          <p:cNvSpPr/>
          <p:nvPr/>
        </p:nvSpPr>
        <p:spPr>
          <a:xfrm>
            <a:off x="1422360" y="1484280"/>
            <a:ext cx="1763640" cy="432000"/>
          </a:xfrm>
          <a:prstGeom prst="wedgeRectCallout">
            <a:avLst>
              <a:gd name="adj1" fmla="val 150509"/>
              <a:gd name="adj2" fmla="val 251597"/>
            </a:avLst>
          </a:prstGeom>
          <a:solidFill>
            <a:srgbClr val="ffc000"/>
          </a:solidFill>
          <a:ln w="93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СЦ ГБУЗ РБ БСМ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. Уф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Равнобедренный треугольник 17"/>
          <p:cNvSpPr/>
          <p:nvPr/>
        </p:nvSpPr>
        <p:spPr>
          <a:xfrm>
            <a:off x="7072200" y="51577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Равнобедренный треугольник 19"/>
          <p:cNvSpPr/>
          <p:nvPr/>
        </p:nvSpPr>
        <p:spPr>
          <a:xfrm>
            <a:off x="6883560" y="3595680"/>
            <a:ext cx="331560" cy="21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ая выноска 20"/>
          <p:cNvSpPr/>
          <p:nvPr/>
        </p:nvSpPr>
        <p:spPr>
          <a:xfrm>
            <a:off x="7758000" y="5881680"/>
            <a:ext cx="1116000" cy="431640"/>
          </a:xfrm>
          <a:prstGeom prst="wedgeRectCallout">
            <a:avLst>
              <a:gd name="adj1" fmla="val -89347"/>
              <a:gd name="adj2" fmla="val -152333"/>
            </a:avLst>
          </a:prstGeom>
          <a:solidFill>
            <a:srgbClr val="ccffcc"/>
          </a:solidFill>
          <a:ln w="93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ПСО ГБУЗ РБ ЦГ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г. Сиб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8"/>
          <p:cNvSpPr/>
          <p:nvPr/>
        </p:nvSpPr>
        <p:spPr>
          <a:xfrm>
            <a:off x="5668920" y="3029040"/>
            <a:ext cx="477720" cy="239400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9"/>
          <p:cNvSpPr/>
          <p:nvPr/>
        </p:nvSpPr>
        <p:spPr>
          <a:xfrm>
            <a:off x="5724360" y="5398920"/>
            <a:ext cx="446400" cy="9064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1"/>
          <p:cNvSpPr/>
          <p:nvPr/>
        </p:nvSpPr>
        <p:spPr>
          <a:xfrm>
            <a:off x="6114960" y="5084640"/>
            <a:ext cx="1509840" cy="155916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21"/>
          <p:cNvSpPr/>
          <p:nvPr/>
        </p:nvSpPr>
        <p:spPr>
          <a:xfrm>
            <a:off x="7432560" y="4006800"/>
            <a:ext cx="147600" cy="111456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23"/>
          <p:cNvSpPr/>
          <p:nvPr/>
        </p:nvSpPr>
        <p:spPr>
          <a:xfrm>
            <a:off x="6146640" y="2711520"/>
            <a:ext cx="2129040" cy="130320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ая выноска 4"/>
          <p:cNvSpPr/>
          <p:nvPr/>
        </p:nvSpPr>
        <p:spPr>
          <a:xfrm>
            <a:off x="2786040" y="3643200"/>
            <a:ext cx="2786040" cy="3071880"/>
          </a:xfrm>
          <a:prstGeom prst="wedgeRectCallout">
            <a:avLst>
              <a:gd name="adj1" fmla="val 100162"/>
              <a:gd name="adj2" fmla="val -47703"/>
            </a:avLst>
          </a:prstGeom>
          <a:solidFill>
            <a:srgbClr val="ffffff"/>
          </a:solidFill>
          <a:ln w="93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стоимость содержания РСЦ на базе ГБУЗ РБ Белорецкая ЦРКБ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лн. 90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коронарографии и 150 стентирований в течение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ая выноска 30"/>
          <p:cNvSpPr/>
          <p:nvPr/>
        </p:nvSpPr>
        <p:spPr>
          <a:xfrm>
            <a:off x="8183520" y="3429000"/>
            <a:ext cx="890640" cy="522360"/>
          </a:xfrm>
          <a:prstGeom prst="wedgeRectCallout">
            <a:avLst>
              <a:gd name="adj1" fmla="val -170912"/>
              <a:gd name="adj2" fmla="val -2800"/>
            </a:avLst>
          </a:prstGeom>
          <a:solidFill>
            <a:srgbClr val="ffff00"/>
          </a:solidFill>
          <a:ln w="93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ПСО ГБУЗ Р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Белорецкая ЦРК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Прямая со стрелкой 27"/>
          <p:cNvCxnSpPr/>
          <p:nvPr/>
        </p:nvCxnSpPr>
        <p:spPr>
          <a:xfrm flipH="1" flipV="1">
            <a:off x="7579800" y="4365360"/>
            <a:ext cx="45360" cy="7200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470" name="5-конечная звезда 38"/>
          <p:cNvSpPr/>
          <p:nvPr/>
        </p:nvSpPr>
        <p:spPr>
          <a:xfrm>
            <a:off x="4859280" y="2637000"/>
            <a:ext cx="292320" cy="26172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ая выноска 4"/>
          <p:cNvSpPr/>
          <p:nvPr/>
        </p:nvSpPr>
        <p:spPr>
          <a:xfrm>
            <a:off x="8101080" y="2071800"/>
            <a:ext cx="1028520" cy="493560"/>
          </a:xfrm>
          <a:prstGeom prst="wedgeRectCallout">
            <a:avLst>
              <a:gd name="adj1" fmla="val -70087"/>
              <a:gd name="adj2" fmla="val 194259"/>
            </a:avLst>
          </a:prstGeom>
          <a:solidFill>
            <a:srgbClr val="ffff00"/>
          </a:solidFill>
          <a:ln w="93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ПСО для ОКС ГАУЗ РБ Учалинская ЦГ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Равнобедренный треугольник 86"/>
          <p:cNvSpPr/>
          <p:nvPr/>
        </p:nvSpPr>
        <p:spPr>
          <a:xfrm>
            <a:off x="7769160" y="3282840"/>
            <a:ext cx="120600" cy="130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Заголовок 1" descr=""/>
          <p:cNvPicPr/>
          <p:nvPr/>
        </p:nvPicPr>
        <p:blipFill>
          <a:blip r:embed="rId2"/>
          <a:stretch/>
        </p:blipFill>
        <p:spPr>
          <a:xfrm>
            <a:off x="646200" y="-60480"/>
            <a:ext cx="8504280" cy="1133640"/>
          </a:xfrm>
          <a:prstGeom prst="rect">
            <a:avLst/>
          </a:prstGeom>
          <a:ln w="0">
            <a:noFill/>
          </a:ln>
        </p:spPr>
      </p:pic>
      <p:sp>
        <p:nvSpPr>
          <p:cNvPr id="474" name="Полилиния 26"/>
          <p:cNvSpPr/>
          <p:nvPr/>
        </p:nvSpPr>
        <p:spPr>
          <a:xfrm>
            <a:off x="4846680" y="3056040"/>
            <a:ext cx="2749680" cy="24620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трелка вниз 2"/>
          <p:cNvSpPr/>
          <p:nvPr/>
        </p:nvSpPr>
        <p:spPr>
          <a:xfrm>
            <a:off x="3857760" y="5357880"/>
            <a:ext cx="57600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C:\Users\HP\Desktop\tb_04.gif"/>
          <p:cNvPicPr/>
          <p:nvPr/>
        </p:nvPicPr>
        <p:blipFill>
          <a:blip r:embed="rId3"/>
          <a:stretch/>
        </p:blipFill>
        <p:spPr>
          <a:xfrm>
            <a:off x="23760" y="-6480"/>
            <a:ext cx="79380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802720" cy="1116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920" y="1356840"/>
            <a:ext cx="86868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ганизация выполнения </a:t>
            </a: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800 рентген-эндоваскулярных вмешательств  и 200 стентирований на коронарных сосудах</a:t>
            </a: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        (</a:t>
            </a:r>
            <a:r>
              <a:rPr b="0" i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в последующем на сосудах головного мозга</a:t>
            </a: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) </a:t>
            </a: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жителям Белорецкого и Сибайского медицинских округов</a:t>
            </a: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за счёт средств ОМС и </a:t>
            </a: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жителям Челябинской области </a:t>
            </a: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за счет средств межтерриториальных расчетов (120 рентген-эндоваскулярных вмешательств  и 40 стентирований на коронарных сосудах)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79" name="Picture 2" descr="C:\Users\HP\Desktop\tb_04.gif"/>
          <p:cNvPicPr/>
          <p:nvPr/>
        </p:nvPicPr>
        <p:blipFill>
          <a:blip r:embed="rId2"/>
          <a:stretch/>
        </p:blipFill>
        <p:spPr>
          <a:xfrm>
            <a:off x="8169120" y="109440"/>
            <a:ext cx="79236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9" descr=""/>
          <p:cNvPicPr/>
          <p:nvPr/>
        </p:nvPicPr>
        <p:blipFill>
          <a:blip r:embed="rId1"/>
          <a:stretch/>
        </p:blipFill>
        <p:spPr>
          <a:xfrm>
            <a:off x="237960" y="109440"/>
            <a:ext cx="8802720" cy="951120"/>
          </a:xfrm>
          <a:prstGeom prst="rect">
            <a:avLst/>
          </a:prstGeom>
          <a:ln w="0">
            <a:noFill/>
          </a:ln>
        </p:spPr>
      </p:pic>
      <p:pic>
        <p:nvPicPr>
          <p:cNvPr id="481" name="Объект 6" descr=""/>
          <p:cNvPicPr/>
          <p:nvPr/>
        </p:nvPicPr>
        <p:blipFill>
          <a:blip r:embed="rId2"/>
          <a:stretch/>
        </p:blipFill>
        <p:spPr>
          <a:xfrm>
            <a:off x="-158760" y="1722600"/>
            <a:ext cx="93535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9" descr=""/>
          <p:cNvPicPr/>
          <p:nvPr/>
        </p:nvPicPr>
        <p:blipFill>
          <a:blip r:embed="rId1"/>
          <a:stretch/>
        </p:blipFill>
        <p:spPr>
          <a:xfrm>
            <a:off x="-49320" y="-176040"/>
            <a:ext cx="9064800" cy="10173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0" y="3429000"/>
            <a:ext cx="852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показателя смертности от случайных топлений 2014- 2016гг.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84" name="Объект 6" descr=""/>
          <p:cNvPicPr/>
          <p:nvPr/>
        </p:nvPicPr>
        <p:blipFill>
          <a:blip r:embed="rId2"/>
          <a:stretch/>
        </p:blipFill>
        <p:spPr>
          <a:xfrm>
            <a:off x="-150840" y="425520"/>
            <a:ext cx="9375840" cy="3125880"/>
          </a:xfrm>
          <a:prstGeom prst="rect">
            <a:avLst/>
          </a:prstGeom>
          <a:ln w="0">
            <a:noFill/>
          </a:ln>
        </p:spPr>
      </p:pic>
      <p:pic>
        <p:nvPicPr>
          <p:cNvPr id="485" name="Object 5" descr=""/>
          <p:cNvPicPr/>
          <p:nvPr/>
        </p:nvPicPr>
        <p:blipFill>
          <a:blip r:embed="rId3"/>
          <a:stretch/>
        </p:blipFill>
        <p:spPr>
          <a:xfrm>
            <a:off x="-36360" y="3790800"/>
            <a:ext cx="9369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9" descr=""/>
          <p:cNvPicPr/>
          <p:nvPr/>
        </p:nvPicPr>
        <p:blipFill>
          <a:blip r:embed="rId1"/>
          <a:stretch/>
        </p:blipFill>
        <p:spPr>
          <a:xfrm>
            <a:off x="-49320" y="-12600"/>
            <a:ext cx="9064800" cy="10062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0" y="3429000"/>
            <a:ext cx="852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показателя смертности от самоубийств 2014- 2016гг.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88" name="Объект 6" descr=""/>
          <p:cNvPicPr/>
          <p:nvPr/>
        </p:nvPicPr>
        <p:blipFill>
          <a:blip r:embed="rId2"/>
          <a:stretch/>
        </p:blipFill>
        <p:spPr>
          <a:xfrm>
            <a:off x="-150840" y="425520"/>
            <a:ext cx="9375840" cy="3125880"/>
          </a:xfrm>
          <a:prstGeom prst="rect">
            <a:avLst/>
          </a:prstGeom>
          <a:ln w="0">
            <a:noFill/>
          </a:ln>
        </p:spPr>
      </p:pic>
      <p:pic>
        <p:nvPicPr>
          <p:cNvPr id="489" name="Object 5" descr=""/>
          <p:cNvPicPr/>
          <p:nvPr/>
        </p:nvPicPr>
        <p:blipFill>
          <a:blip r:embed="rId3"/>
          <a:stretch/>
        </p:blipFill>
        <p:spPr>
          <a:xfrm>
            <a:off x="-36360" y="3790800"/>
            <a:ext cx="9369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9" descr=""/>
          <p:cNvPicPr/>
          <p:nvPr/>
        </p:nvPicPr>
        <p:blipFill>
          <a:blip r:embed="rId1"/>
          <a:stretch/>
        </p:blipFill>
        <p:spPr>
          <a:xfrm>
            <a:off x="237960" y="109440"/>
            <a:ext cx="8826840" cy="951120"/>
          </a:xfrm>
          <a:prstGeom prst="rect">
            <a:avLst/>
          </a:prstGeom>
          <a:ln w="0">
            <a:noFill/>
          </a:ln>
        </p:spPr>
      </p:pic>
      <p:pic>
        <p:nvPicPr>
          <p:cNvPr id="491" name="Объект 6" descr=""/>
          <p:cNvPicPr/>
          <p:nvPr/>
        </p:nvPicPr>
        <p:blipFill>
          <a:blip r:embed="rId2"/>
          <a:stretch/>
        </p:blipFill>
        <p:spPr>
          <a:xfrm>
            <a:off x="-158760" y="1217520"/>
            <a:ext cx="935352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1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8955360" cy="13651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3"/>
          <p:cNvSpPr/>
          <p:nvPr/>
        </p:nvSpPr>
        <p:spPr>
          <a:xfrm>
            <a:off x="500040" y="15001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ие Постановления Правительства Республики Башкортостан от 23.12.2016г. № 537 «Об утверждении Программы государственных гарантий бесплатного оказания гражданам медицинской помощи в республике Башкотостан на 2017 год и  плановый период 2018 и 2019 г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4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772840" cy="118296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3"/>
          <p:cNvSpPr/>
          <p:nvPr/>
        </p:nvSpPr>
        <p:spPr>
          <a:xfrm>
            <a:off x="285840" y="1428840"/>
            <a:ext cx="86439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ПРИ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МИНИСТЕРСТВА ЗДРАВООХРАНЕНИЯ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от 15 июля 2016 г. N 520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« ОБ УТВЕРЖДЕНИИ КРИТЕРИЕВ ОЦЕНКИ КАЧЕСТВА 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Заголовок 4" descr=""/>
          <p:cNvPicPr/>
          <p:nvPr/>
        </p:nvPicPr>
        <p:blipFill>
          <a:blip r:embed="rId2"/>
          <a:stretch/>
        </p:blipFill>
        <p:spPr>
          <a:xfrm>
            <a:off x="317520" y="6308640"/>
            <a:ext cx="8693280" cy="55584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6"/>
          <p:cNvSpPr/>
          <p:nvPr/>
        </p:nvSpPr>
        <p:spPr>
          <a:xfrm>
            <a:off x="500040" y="400068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61395"/>
                </a:solidFill>
                <a:uFillTx/>
                <a:latin typeface="Times New Roman"/>
                <a:ea typeface="Times New Roman"/>
              </a:rPr>
              <a:t>Включает  в  себя около  600  критериев 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1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по группам заболева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1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по условиям оказания медицинской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61395"/>
                </a:solidFill>
                <a:latin typeface="Times New Roman"/>
                <a:ea typeface="Times New Roman"/>
              </a:rPr>
              <a:t>(в амбулаторных условиях, в условиях дневного стационара и стационарных условия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9" descr=""/>
          <p:cNvPicPr/>
          <p:nvPr/>
        </p:nvPicPr>
        <p:blipFill>
          <a:blip r:embed="rId1"/>
          <a:stretch/>
        </p:blipFill>
        <p:spPr>
          <a:xfrm>
            <a:off x="-66600" y="-176040"/>
            <a:ext cx="9082080" cy="1017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23640" y="3141360"/>
            <a:ext cx="8523000" cy="2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Показатель младенческой смертности 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2" name="Объект 6" descr=""/>
          <p:cNvPicPr/>
          <p:nvPr/>
        </p:nvPicPr>
        <p:blipFill>
          <a:blip r:embed="rId2"/>
          <a:stretch/>
        </p:blipFill>
        <p:spPr>
          <a:xfrm>
            <a:off x="-165240" y="487440"/>
            <a:ext cx="9448920" cy="3859200"/>
          </a:xfrm>
          <a:prstGeom prst="rect">
            <a:avLst/>
          </a:prstGeom>
          <a:ln w="0">
            <a:noFill/>
          </a:ln>
        </p:spPr>
      </p:pic>
      <p:pic>
        <p:nvPicPr>
          <p:cNvPr id="413" name="Объект 6" descr=""/>
          <p:cNvPicPr/>
          <p:nvPr/>
        </p:nvPicPr>
        <p:blipFill>
          <a:blip r:embed="rId3"/>
          <a:stretch/>
        </p:blipFill>
        <p:spPr>
          <a:xfrm>
            <a:off x="-36360" y="3645000"/>
            <a:ext cx="936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1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8955360" cy="136512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3"/>
          <p:cNvSpPr/>
          <p:nvPr/>
        </p:nvSpPr>
        <p:spPr>
          <a:xfrm>
            <a:off x="500040" y="1500120"/>
            <a:ext cx="8358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лях дальнейшего снижения смертности населения Белорецкого медицинского округа, в т.ч. трудоспособного  возраста от болезней системы кровообра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аправ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охождения  КАГ – до 400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становки стентов  до 100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ти работу по открытию при ГБУЗ РБ Белорецкая ЦРКБ  РС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925120" cy="185904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3"/>
          <p:cNvSpPr/>
          <p:nvPr/>
        </p:nvSpPr>
        <p:spPr>
          <a:xfrm>
            <a:off x="500040" y="178596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монт фасада поликлиники для взросл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ршение проектно – сметной документации и начало ремонта здания инфекционного отделения для размещения психиатрического и наркологического  отде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8955360" cy="136512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3"/>
          <p:cNvSpPr/>
          <p:nvPr/>
        </p:nvSpPr>
        <p:spPr>
          <a:xfrm>
            <a:off x="214200" y="1500120"/>
            <a:ext cx="8929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трализация клинико – диагностической лаборатории на базе здания бывшего пищеблока перинатального центра  приобретение современного лабораторного оборудования  ( гематологического анализато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ие централизованного стерилизационного отделения с использованием плазменного стерилиз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8955360" cy="136512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3"/>
          <p:cNvSpPr/>
          <p:nvPr/>
        </p:nvSpPr>
        <p:spPr>
          <a:xfrm>
            <a:off x="500040" y="1500120"/>
            <a:ext cx="835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  в поликлинике для взрослых  открытой регист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ие кабинета гериатрическ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9680" y="5713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Итоги  работы 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Белорецкого медицинского округа за  2016 год. 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f75"/>
                </a:solidFill>
                <a:latin typeface="Cambria"/>
              </a:rPr>
              <a:t>Задачи на 2017 год.</a:t>
            </a:r>
            <a:endParaRPr b="0" lang="en-US" sz="47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285840" y="1214280"/>
            <a:ext cx="8286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714840" y="4286160"/>
            <a:ext cx="521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3f75"/>
                </a:solidFill>
                <a:latin typeface="Cambria"/>
              </a:rPr>
              <a:t>Главный внештатный специалист Минздрава РБ по  Белорецкому МО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ambria"/>
              </a:rPr>
              <a:t>Главный вр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ambria"/>
              </a:rPr>
              <a:t>ГБУЗ РБ Белорецкая ЦРК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f75"/>
                </a:solidFill>
                <a:latin typeface="Century"/>
              </a:rPr>
              <a:t>Кустов  Евгений 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9" descr=""/>
          <p:cNvPicPr/>
          <p:nvPr/>
        </p:nvPicPr>
        <p:blipFill>
          <a:blip r:embed="rId1"/>
          <a:stretch/>
        </p:blipFill>
        <p:spPr>
          <a:xfrm>
            <a:off x="-36360" y="-176040"/>
            <a:ext cx="9051840" cy="1017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23640" y="3141360"/>
            <a:ext cx="8523000" cy="2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енный прирост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быль населения 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6" name="Объект 6" descr=""/>
          <p:cNvPicPr/>
          <p:nvPr/>
        </p:nvPicPr>
        <p:blipFill>
          <a:blip r:embed="rId2"/>
          <a:stretch/>
        </p:blipFill>
        <p:spPr>
          <a:xfrm>
            <a:off x="146160" y="512640"/>
            <a:ext cx="9163080" cy="419904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5" descr=""/>
          <p:cNvPicPr/>
          <p:nvPr/>
        </p:nvPicPr>
        <p:blipFill>
          <a:blip r:embed="rId3"/>
          <a:stretch/>
        </p:blipFill>
        <p:spPr>
          <a:xfrm>
            <a:off x="-36360" y="3627360"/>
            <a:ext cx="918684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9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9082080" cy="1140120"/>
          </a:xfrm>
          <a:prstGeom prst="rect">
            <a:avLst/>
          </a:prstGeom>
          <a:ln w="0">
            <a:noFill/>
          </a:ln>
        </p:spPr>
      </p:pic>
      <p:pic>
        <p:nvPicPr>
          <p:cNvPr id="419" name="Объект 6" descr=""/>
          <p:cNvPicPr/>
          <p:nvPr/>
        </p:nvPicPr>
        <p:blipFill>
          <a:blip r:embed="rId2"/>
          <a:stretch/>
        </p:blipFill>
        <p:spPr>
          <a:xfrm>
            <a:off x="-160200" y="1325520"/>
            <a:ext cx="9235800" cy="2730600"/>
          </a:xfrm>
          <a:prstGeom prst="rect">
            <a:avLst/>
          </a:prstGeom>
          <a:ln w="0">
            <a:noFill/>
          </a:ln>
        </p:spPr>
      </p:pic>
      <p:pic>
        <p:nvPicPr>
          <p:cNvPr id="420" name="Object 3" descr=""/>
          <p:cNvPicPr/>
          <p:nvPr/>
        </p:nvPicPr>
        <p:blipFill>
          <a:blip r:embed="rId3"/>
          <a:stretch/>
        </p:blipFill>
        <p:spPr>
          <a:xfrm>
            <a:off x="0" y="4214880"/>
            <a:ext cx="9353520" cy="2286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94920" y="3573000"/>
            <a:ext cx="8596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численности населения трудоспособного возраста, человек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2" name="Объект 2"/>
          <p:cNvSpPr/>
          <p:nvPr/>
        </p:nvSpPr>
        <p:spPr>
          <a:xfrm>
            <a:off x="395280" y="1197000"/>
            <a:ext cx="8596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общей  численности населения ,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Прямая со стрелкой 7"/>
          <p:cNvCxnSpPr/>
          <p:nvPr/>
        </p:nvCxnSpPr>
        <p:spPr>
          <a:xfrm>
            <a:off x="2286000" y="2071440"/>
            <a:ext cx="38584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4" name="Прямая со стрелкой 8"/>
          <p:cNvCxnSpPr/>
          <p:nvPr/>
        </p:nvCxnSpPr>
        <p:spPr>
          <a:xfrm>
            <a:off x="2571480" y="4928760"/>
            <a:ext cx="38581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9" descr=""/>
          <p:cNvPicPr/>
          <p:nvPr/>
        </p:nvPicPr>
        <p:blipFill>
          <a:blip r:embed="rId1"/>
          <a:stretch/>
        </p:blipFill>
        <p:spPr>
          <a:xfrm>
            <a:off x="255600" y="66600"/>
            <a:ext cx="874224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6" descr=""/>
          <p:cNvPicPr/>
          <p:nvPr/>
        </p:nvPicPr>
        <p:blipFill>
          <a:blip r:embed="rId2"/>
          <a:stretch/>
        </p:blipFill>
        <p:spPr>
          <a:xfrm>
            <a:off x="49320" y="633240"/>
            <a:ext cx="9369360" cy="385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0" y="4857840"/>
          <a:ext cx="9144000" cy="1833480"/>
        </p:xfrm>
        <a:graphic>
          <a:graphicData uri="http://schemas.openxmlformats.org/drawingml/2006/table">
            <a:tbl>
              <a:tblPr/>
              <a:tblGrid>
                <a:gridCol w="884160"/>
                <a:gridCol w="1622520"/>
                <a:gridCol w="1474920"/>
                <a:gridCol w="1474560"/>
                <a:gridCol w="1474920"/>
                <a:gridCol w="221292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92f"/>
                          </a:solidFill>
                          <a:latin typeface="Times New Roman"/>
                          <a:ea typeface="Times New Roman"/>
                        </a:rPr>
                        <a:t>Количество умерших лиц трудоспособного возраста (человек), за 2014- 2016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b3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елил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з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округ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5d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2f0"/>
                    </a:solidFill>
                  </a:tcPr>
                </a:tc>
              </a:tr>
            </a:tbl>
          </a:graphicData>
        </a:graphic>
      </p:graphicFrame>
      <p:sp>
        <p:nvSpPr>
          <p:cNvPr id="428" name="Объект 2"/>
          <p:cNvSpPr/>
          <p:nvPr/>
        </p:nvSpPr>
        <p:spPr>
          <a:xfrm>
            <a:off x="50760" y="4143240"/>
            <a:ext cx="904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ведён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Целевой  критерий ПГГ  РБ  на 2017 год:   Смертность населения в трудоспособном возрасте  - 603 на 100 тыс.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Прямая со стрелкой 8"/>
          <p:cNvCxnSpPr/>
          <p:nvPr/>
        </p:nvCxnSpPr>
        <p:spPr>
          <a:xfrm flipH="1">
            <a:off x="8500680" y="5716080"/>
            <a:ext cx="2160" cy="35820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0" name="Прямая со стрелкой 11"/>
          <p:cNvCxnSpPr/>
          <p:nvPr/>
        </p:nvCxnSpPr>
        <p:spPr>
          <a:xfrm flipH="1">
            <a:off x="5071680" y="6143400"/>
            <a:ext cx="2160" cy="21636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1" name="Прямая со стрелкой 12"/>
          <p:cNvCxnSpPr/>
          <p:nvPr/>
        </p:nvCxnSpPr>
        <p:spPr>
          <a:xfrm flipH="1">
            <a:off x="5071680" y="5786280"/>
            <a:ext cx="2160" cy="21672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2" name="Прямая со стрелкой 13"/>
          <p:cNvCxnSpPr/>
          <p:nvPr/>
        </p:nvCxnSpPr>
        <p:spPr>
          <a:xfrm flipH="1">
            <a:off x="6571440" y="6143400"/>
            <a:ext cx="2520" cy="21636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3" name="Прямая со стрелкой 14"/>
          <p:cNvCxnSpPr/>
          <p:nvPr/>
        </p:nvCxnSpPr>
        <p:spPr>
          <a:xfrm flipH="1">
            <a:off x="6500520" y="5786280"/>
            <a:ext cx="2160" cy="21672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4" name="Прямая со стрелкой 15"/>
          <p:cNvCxnSpPr/>
          <p:nvPr/>
        </p:nvCxnSpPr>
        <p:spPr>
          <a:xfrm flipH="1">
            <a:off x="1999440" y="6215040"/>
            <a:ext cx="2520" cy="28656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5" name="Прямая со стрелкой 16"/>
          <p:cNvCxnSpPr/>
          <p:nvPr/>
        </p:nvCxnSpPr>
        <p:spPr>
          <a:xfrm flipH="1">
            <a:off x="3571200" y="6215040"/>
            <a:ext cx="1080" cy="35784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6" name="Прямая со стрелкой 18"/>
          <p:cNvCxnSpPr/>
          <p:nvPr/>
        </p:nvCxnSpPr>
        <p:spPr>
          <a:xfrm flipH="1">
            <a:off x="8500680" y="6215040"/>
            <a:ext cx="2160" cy="357840"/>
          </a:xfrm>
          <a:prstGeom prst="straightConnector1">
            <a:avLst/>
          </a:prstGeom>
          <a:ln w="38160">
            <a:solidFill>
              <a:srgbClr val="0a8810"/>
            </a:solidFill>
            <a:miter/>
            <a:tailEnd len="med" type="arrow" w="med"/>
          </a:ln>
        </p:spPr>
      </p:cxnSp>
      <p:cxnSp>
        <p:nvCxnSpPr>
          <p:cNvPr id="437" name="Прямая со стрелкой 20"/>
          <p:cNvCxnSpPr/>
          <p:nvPr/>
        </p:nvCxnSpPr>
        <p:spPr>
          <a:xfrm flipV="1">
            <a:off x="1999080" y="585756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22"/>
          <p:cNvCxnSpPr/>
          <p:nvPr/>
        </p:nvCxnSpPr>
        <p:spPr>
          <a:xfrm flipV="1">
            <a:off x="3570840" y="585756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079640"/>
          </a:xfrm>
          <a:prstGeom prst="rect">
            <a:avLst/>
          </a:prstGeom>
          <a:ln w="0">
            <a:noFill/>
          </a:ln>
        </p:spPr>
      </p:pic>
      <p:pic>
        <p:nvPicPr>
          <p:cNvPr id="440" name="Содержимое 3" descr=""/>
          <p:cNvPicPr/>
          <p:nvPr/>
        </p:nvPicPr>
        <p:blipFill>
          <a:blip r:embed="rId2"/>
          <a:stretch/>
        </p:blipFill>
        <p:spPr>
          <a:xfrm>
            <a:off x="57240" y="1577880"/>
            <a:ext cx="89344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9" descr=""/>
          <p:cNvPicPr/>
          <p:nvPr/>
        </p:nvPicPr>
        <p:blipFill>
          <a:blip r:embed="rId1"/>
          <a:stretch/>
        </p:blipFill>
        <p:spPr>
          <a:xfrm>
            <a:off x="237960" y="109440"/>
            <a:ext cx="8826840" cy="1511280"/>
          </a:xfrm>
          <a:prstGeom prst="rect">
            <a:avLst/>
          </a:prstGeom>
          <a:ln w="0">
            <a:noFill/>
          </a:ln>
        </p:spPr>
      </p:pic>
      <p:pic>
        <p:nvPicPr>
          <p:cNvPr id="442" name="Объект 6" descr=""/>
          <p:cNvPicPr/>
          <p:nvPr/>
        </p:nvPicPr>
        <p:blipFill>
          <a:blip r:embed="rId2"/>
          <a:stretch/>
        </p:blipFill>
        <p:spPr>
          <a:xfrm>
            <a:off x="-212760" y="1481040"/>
            <a:ext cx="93632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9" descr=""/>
          <p:cNvPicPr/>
          <p:nvPr/>
        </p:nvPicPr>
        <p:blipFill>
          <a:blip r:embed="rId1"/>
          <a:stretch/>
        </p:blipFill>
        <p:spPr>
          <a:xfrm>
            <a:off x="-49320" y="-176040"/>
            <a:ext cx="9064800" cy="10173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0" y="3429000"/>
            <a:ext cx="852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показателя смертности от ОИМ за 2014- 2016гг.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45" name="Объект 6" descr=""/>
          <p:cNvPicPr/>
          <p:nvPr/>
        </p:nvPicPr>
        <p:blipFill>
          <a:blip r:embed="rId2"/>
          <a:stretch/>
        </p:blipFill>
        <p:spPr>
          <a:xfrm>
            <a:off x="-150840" y="425520"/>
            <a:ext cx="9375840" cy="2909880"/>
          </a:xfrm>
          <a:prstGeom prst="rect">
            <a:avLst/>
          </a:prstGeom>
          <a:ln w="0">
            <a:noFill/>
          </a:ln>
        </p:spPr>
      </p:pic>
      <p:pic>
        <p:nvPicPr>
          <p:cNvPr id="446" name="Object 5" descr=""/>
          <p:cNvPicPr/>
          <p:nvPr/>
        </p:nvPicPr>
        <p:blipFill>
          <a:blip r:embed="rId3"/>
          <a:stretch/>
        </p:blipFill>
        <p:spPr>
          <a:xfrm>
            <a:off x="-36360" y="3389400"/>
            <a:ext cx="936936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9" descr=""/>
          <p:cNvPicPr/>
          <p:nvPr/>
        </p:nvPicPr>
        <p:blipFill>
          <a:blip r:embed="rId1"/>
          <a:stretch/>
        </p:blipFill>
        <p:spPr>
          <a:xfrm>
            <a:off x="-49320" y="-176040"/>
            <a:ext cx="9064800" cy="1017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0" y="3429000"/>
            <a:ext cx="852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показателя смертности от ОНМК 2014- 2016гг.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49" name="Объект 6" descr=""/>
          <p:cNvPicPr/>
          <p:nvPr/>
        </p:nvPicPr>
        <p:blipFill>
          <a:blip r:embed="rId2"/>
          <a:stretch/>
        </p:blipFill>
        <p:spPr>
          <a:xfrm>
            <a:off x="-150840" y="425520"/>
            <a:ext cx="9375840" cy="3125880"/>
          </a:xfrm>
          <a:prstGeom prst="rect">
            <a:avLst/>
          </a:prstGeom>
          <a:ln w="0">
            <a:noFill/>
          </a:ln>
        </p:spPr>
      </p:pic>
      <p:pic>
        <p:nvPicPr>
          <p:cNvPr id="450" name="Object 5" descr=""/>
          <p:cNvPicPr/>
          <p:nvPr/>
        </p:nvPicPr>
        <p:blipFill>
          <a:blip r:embed="rId3"/>
          <a:stretch/>
        </p:blipFill>
        <p:spPr>
          <a:xfrm>
            <a:off x="-28440" y="3522600"/>
            <a:ext cx="93535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1:36:08Z</dcterms:created>
  <dc:creator>Тарзимина Л.Р.</dc:creator>
  <dc:description/>
  <dc:language>en-US</dc:language>
  <cp:lastModifiedBy>Admin</cp:lastModifiedBy>
  <dcterms:modified xsi:type="dcterms:W3CDTF">2017-02-27T08:45:22Z</dcterms:modified>
  <cp:revision>852</cp:revision>
  <dc:subject/>
  <dc:title>Нужно заполнить по Белорецкой ЦРБ, что есть. Это шаблон аналога по РБ, переделать на нем</dc:title>
</cp:coreProperties>
</file>